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1.wmf" ContentType="image/x-wmf"/>
  <Override PartName="/ppt/media/type.wav" ContentType="audio/x-wav"/>
  <Override PartName="/ppt/media/image6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5.jpeg" ContentType="image/jpeg"/>
  <Override PartName="/ppt/media/camera.wav" ContentType="audio/x-wav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50.wmf" ContentType="image/x-wmf"/>
  <Override PartName="/ppt/media/image24.jpeg" ContentType="image/jpeg"/>
  <Override PartName="/ppt/media/image3.jpeg" ContentType="image/jpeg"/>
  <Override PartName="/ppt/media/image37.jpeg" ContentType="image/jpeg"/>
  <Override PartName="/ppt/media/image27.jpeg" ContentType="image/jpeg"/>
  <Override PartName="/ppt/media/image33.jpeg" ContentType="image/jpeg"/>
  <Override PartName="/ppt/media/image9.wmf" ContentType="image/x-wmf"/>
  <Override PartName="/ppt/media/image28.jpeg" ContentType="image/jpeg"/>
  <Override PartName="/ppt/media/image34.jpeg" ContentType="image/jpeg"/>
  <Override PartName="/ppt/media/image30.jpeg" ContentType="image/jpeg"/>
  <Override PartName="/ppt/media/image32.jpeg" ContentType="image/jpeg"/>
  <Override PartName="/ppt/media/image36.jpeg" ContentType="image/jpeg"/>
  <Override PartName="/ppt/media/image11.jpeg" ContentType="image/jpeg"/>
  <Override PartName="/ppt/media/image43.wmf" ContentType="image/x-wmf"/>
  <Override PartName="/ppt/media/image29.jpeg" ContentType="image/jpeg"/>
  <Override PartName="/ppt/media/image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8.jpeg" ContentType="image/jpeg"/>
  <Override PartName="/ppt/media/image8.jpeg" ContentType="image/jpeg"/>
  <Override PartName="/ppt/media/image39.jpeg" ContentType="image/jpeg"/>
  <Override PartName="/ppt/media/image47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2.wmf" ContentType="image/x-wmf"/>
  <Override PartName="/ppt/media/image49.wmf" ContentType="image/x-wmf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020-8A36-465D-9F38-E13B50E9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1D0-F97D-4127-8884-C7382630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FD4-3506-4505-926A-EE0A1689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D32-D47F-46E6-A19B-D28B8C01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99F4-1167-4334-BC98-4F43AB33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C189-EC24-485B-8C5E-9D2A63F7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FC82-7FDF-4A1E-882E-54B39219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0946-CF4C-4509-8B51-33C1E33B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3229-5A8E-45E7-A452-24EF64E7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6827-7751-4C7D-875F-8431ADD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7744-0527-41E1-8BB4-58D433A6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79D-4AC3-4445-8B36-1EAED5F0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9DE8-2C1B-4451-9173-D153A5C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0703-ABDE-47BC-9012-28937E5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B61F-24BF-4B8E-BB37-7636DE4A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E4F4-045F-4169-8565-0EE13BDC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A83F-2B41-4430-B567-088E0604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D50-12B1-42E5-B125-2EF1DB90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CCC-E414-4B11-BD7B-00020A7D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2C5-8E2E-4BA6-82AF-02592119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546-DF51-4DA3-8B91-61B4AF22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088-ACD5-41DF-A487-554CE380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54F-1732-4199-A53A-1DA17F6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253-1743-40F0-BFD5-AB5240AC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50BC-D773-4BF8-A3B4-49158C6FD444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8353-A4C5-422C-8301-D26720ABCCBF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39.jpeg"/><Relationship Id="rId19" Type="http://schemas.openxmlformats.org/officeDocument/2006/relationships/image" Target="../media/image40.jpeg"/><Relationship Id="rId20" Type="http://schemas.openxmlformats.org/officeDocument/2006/relationships/image" Target="../media/image32.jpeg"/><Relationship Id="rId21" Type="http://schemas.openxmlformats.org/officeDocument/2006/relationships/image" Target="../media/image38.jpe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wmf"/><Relationship Id="rId3" Type="http://schemas.openxmlformats.org/officeDocument/2006/relationships/image" Target="../media/image42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的语言</a:t>
            </a:r>
            <a:r>
              <a:rPr b="0" i="1" lang="zh-CN" sz="72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r>
              <a:rPr b="0" i="1" lang="zh-CN" sz="5400" spc="-1" strike="noStrike">
                <a:solidFill>
                  <a:srgbClr val="ff00ff"/>
                </a:solidFill>
                <a:latin typeface="华文行楷"/>
                <a:ea typeface="华文行楷"/>
              </a:rPr>
              <a:t>pingduzhongxue</a:t>
            </a:r>
            <a:r>
              <a:rPr b="0" i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2005-10</a:t>
            </a:r>
            <a:r>
              <a:rPr b="0" i="1" lang="zh-CN" sz="72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br>
              <a:rPr sz="7200"/>
            </a:br>
            <a:r>
              <a:rPr b="0" i="1" lang="zh-CN" sz="5400" spc="-1" strike="noStrike">
                <a:solidFill>
                  <a:srgbClr val="cc3300"/>
                </a:solidFill>
                <a:latin typeface="华文行楷"/>
                <a:ea typeface="华文行楷"/>
              </a:rPr>
              <a:t>         </a:t>
            </a:r>
            <a:r>
              <a:rPr b="0" i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-----</a:t>
            </a:r>
            <a:r>
              <a:rPr b="0" i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主题班会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3520" y="46479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华文行楷"/>
                <a:ea typeface="华文行楷"/>
              </a:rPr>
              <a:t>    </a:t>
            </a:r>
            <a:r>
              <a:rPr b="1" lang="zh-CN" sz="5400" spc="-1" strike="noStrike">
                <a:solidFill>
                  <a:srgbClr val="9900ff"/>
                </a:solidFill>
                <a:latin typeface="华文行楷"/>
                <a:ea typeface="华文行楷"/>
              </a:rPr>
              <a:t>站在世界的舞台                           尽情演绎   挥洒豪迈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781680" y="441972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华文行楷"/>
                <a:ea typeface="华文行楷"/>
              </a:rPr>
              <a:t>    </a:t>
            </a:r>
            <a:r>
              <a:rPr b="1" lang="zh-CN" sz="5400" spc="-1" strike="noStrike">
                <a:solidFill>
                  <a:srgbClr val="9900ff"/>
                </a:solidFill>
                <a:latin typeface="华文行楷"/>
                <a:ea typeface="华文行楷"/>
              </a:rPr>
              <a:t>站在世界的舞台                           尽情演绎   挥洒豪迈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2209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华文行楷"/>
                <a:ea typeface="华文行楷"/>
              </a:rPr>
              <a:t>演   讲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876920" y="33523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《转     折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江雪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《致理解女神降临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秦瑜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cc00"/>
                </a:solidFill>
                <a:latin typeface="Arial Black"/>
                <a:ea typeface="华文行楷"/>
              </a:rPr>
              <a:t>分组讨论</a:t>
            </a:r>
            <a:r>
              <a:rPr b="1" i="1" lang="zh-CN" sz="5400" spc="-1" strike="noStrike">
                <a:solidFill>
                  <a:srgbClr val="00cc00"/>
                </a:solidFill>
                <a:latin typeface="Arial"/>
                <a:ea typeface="黑体"/>
              </a:rPr>
              <a:t> </a:t>
            </a:r>
            <a:br>
              <a:rPr sz="5400"/>
            </a:b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1.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我们为谁而学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?                                               2.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学习是为了什么 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?                                           3.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我们应如何理解来各个方面的压力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?                                                      </a:t>
            </a:r>
            <a:br>
              <a:rPr sz="3200"/>
            </a:b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4.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我们每一天过的有意义吗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?  </a:t>
            </a:r>
            <a:br>
              <a:rPr sz="3200"/>
            </a:b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5.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对各位同学的演讲有何感想和感悟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?</a:t>
            </a:r>
            <a:r>
              <a:rPr b="1" i="1" lang="zh-CN" sz="3200" spc="-1" strike="noStrike" u="sng">
                <a:solidFill>
                  <a:srgbClr val="ff00ff"/>
                </a:solidFill>
                <a:uFillTx/>
                <a:latin typeface="Arial"/>
                <a:ea typeface="黑体"/>
              </a:rPr>
              <a:t>                                     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8840" y="5943240"/>
            <a:ext cx="380988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ff"/>
                </a:solidFill>
                <a:latin typeface="Arial"/>
              </a:rPr>
              <a:t>每组抽一人发言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43000" y="5257800"/>
            <a:ext cx="18144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922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0" y="-63360"/>
            <a:ext cx="9144000" cy="7046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0" y="6192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1"/>
          <a:stretch/>
        </p:blipFill>
        <p:spPr>
          <a:xfrm>
            <a:off x="0" y="-63360"/>
            <a:ext cx="9144000" cy="7046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2"/>
          <a:stretch/>
        </p:blipFill>
        <p:spPr>
          <a:xfrm>
            <a:off x="0" y="-63360"/>
            <a:ext cx="9144000" cy="7046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3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4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5"/>
          <a:stretch/>
        </p:blipFill>
        <p:spPr>
          <a:xfrm>
            <a:off x="0" y="-1440"/>
            <a:ext cx="9144000" cy="6984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6"/>
          <a:stretch/>
        </p:blipFill>
        <p:spPr>
          <a:xfrm>
            <a:off x="0" y="-63360"/>
            <a:ext cx="9144000" cy="7046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7"/>
          <a:stretch/>
        </p:blipFill>
        <p:spPr>
          <a:xfrm>
            <a:off x="0" y="-63360"/>
            <a:ext cx="9144000" cy="7046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8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9"/>
          <a:stretch/>
        </p:blipFill>
        <p:spPr>
          <a:xfrm>
            <a:off x="0" y="-63360"/>
            <a:ext cx="9144000" cy="7046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0"/>
          <a:stretch/>
        </p:blipFill>
        <p:spPr>
          <a:xfrm>
            <a:off x="0" y="-63360"/>
            <a:ext cx="9144000" cy="7046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-7497000" y="4343400"/>
            <a:ext cx="57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儿行千里母担忧   愿天下所有的母亲身体健康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9244080" y="4419720"/>
            <a:ext cx="92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儿行千里母担忧   愿天下所有的母亲身体健康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9244080" y="4495680"/>
            <a:ext cx="92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儿行千里母担忧   愿天下所有的母亲身体健康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429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儿行千里母担忧 ，  愿天下所有的母亲身体健康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99"/>
                </a:solidFill>
                <a:latin typeface="Arial"/>
                <a:ea typeface="华文新魏"/>
              </a:rPr>
              <a:t>歌表演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2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5" nodeType="afterEffect" fill="hold" presetClass="entr" presetID="16" presetSubtype="4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8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8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9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9500"/>
                            </p:stCondLst>
                            <p:childTnLst>
                              <p:par>
                                <p:cTn id="210" nodeType="afterEffect" fill="hold" presetClass="entr" presetID="4" presetSubtype="3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5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100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41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62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73000"/>
                            </p:stCondLst>
                            <p:childTnLst>
                              <p:par>
                                <p:cTn id="237" nodeType="afterEffect" fill="hold" presetClass="entr" presetID="14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83500"/>
                            </p:stCondLst>
                            <p:childTnLst>
                              <p:par>
                                <p:cTn id="241" nodeType="afterEffect" fill="hold" presetClass="entr" presetID="16" presetSubtype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9400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45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15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25500"/>
                            </p:stCondLst>
                            <p:childTnLst>
                              <p:par>
                                <p:cTn id="257" nodeType="afterEffect" fill="hold" presetClass="entr" presetID="16" presetSubtype="37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3600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36500"/>
                            </p:stCondLst>
                            <p:childTnLst>
                              <p:par>
                                <p:cTn id="2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415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465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1500"/>
                            </p:stCondLst>
                            <p:childTnLst>
                              <p:par>
                                <p:cTn id="2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1752120"/>
            <a:ext cx="487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Arial"/>
                <a:ea typeface="华文行楷"/>
              </a:rPr>
              <a:t>家长代表发言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668160" cy="64476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5257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33cc"/>
                </a:solidFill>
                <a:latin typeface="Arial"/>
                <a:ea typeface="华文彩云"/>
              </a:rPr>
              <a:t>班主任总结发言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26463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533880" y="533520"/>
            <a:ext cx="4343400" cy="9144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合唱</a:t>
            </a:r>
            <a:endParaRPr b="1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88960" y="5943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b07f9"/>
                </a:solidFill>
                <a:latin typeface="Times New Roman"/>
                <a:ea typeface="华文行楷"/>
              </a:rPr>
              <a:t>班会结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4876920"/>
            <a:ext cx="69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阳光总在风雨后       请相信有彩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珍惜所有的感动       希望在你手中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5943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同学们再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99880" y="4648320"/>
            <a:ext cx="1044720" cy="2209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620120" y="457200"/>
            <a:ext cx="1143000" cy="1100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14600" y="243828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76720" y="2286000"/>
            <a:ext cx="3276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同一首歌</a:t>
            </a:r>
            <a:endParaRPr b="0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"/>
          <p:cNvSpPr/>
          <p:nvPr/>
        </p:nvSpPr>
        <p:spPr>
          <a:xfrm>
            <a:off x="-708660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阳光总在风雨后       请相信有彩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珍惜所有的感动       希望在你手中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6948360" y="4876920"/>
            <a:ext cx="69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阳光总在风雨后       请相信有彩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珍惜所有的感动       希望在你手中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7000"/>
                            </p:stCondLst>
                            <p:childTnLst>
                              <p:par>
                                <p:cTn id="3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5562720" cy="3962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2670120" cy="3468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制作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重庆市平都中学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673520" y="3428640"/>
            <a:ext cx="3657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33"/>
                </a:solidFill>
                <a:latin typeface="Arial"/>
              </a:rPr>
              <a:t>蔡  剑  锋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56386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cc"/>
                </a:solidFill>
                <a:latin typeface="Times New Roman"/>
              </a:rPr>
              <a:t>谢      谢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Franklin Gothic Medium"/>
                <a:ea typeface="华文彩云"/>
              </a:rPr>
              <a:t>     </a:t>
            </a:r>
            <a:r>
              <a:rPr b="1" lang="zh-CN" sz="6600" spc="-1" strike="noStrike">
                <a:solidFill>
                  <a:srgbClr val="990000"/>
                </a:solidFill>
                <a:latin typeface="Franklin Gothic Medium"/>
                <a:ea typeface="华文彩云"/>
              </a:rPr>
              <a:t>年轻的你我</a:t>
            </a:r>
            <a:br>
              <a:rPr sz="6600"/>
            </a:br>
            <a:r>
              <a:rPr b="1" lang="zh-CN" sz="3600" spc="-1" strike="noStrike">
                <a:solidFill>
                  <a:srgbClr val="99cc99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993300"/>
                </a:solidFill>
                <a:latin typeface="隶书"/>
                <a:ea typeface="隶书"/>
              </a:rPr>
              <a:t>2005</a:t>
            </a:r>
            <a:r>
              <a:rPr b="1" lang="zh-CN" sz="3200" spc="-1" strike="noStrike">
                <a:solidFill>
                  <a:srgbClr val="993300"/>
                </a:solidFill>
                <a:latin typeface="隶书"/>
                <a:ea typeface="隶书"/>
              </a:rPr>
              <a:t>级</a:t>
            </a:r>
            <a:r>
              <a:rPr b="1" lang="zh-CN" sz="3200" spc="-1" strike="noStrike">
                <a:solidFill>
                  <a:srgbClr val="993300"/>
                </a:solidFill>
                <a:latin typeface="隶书"/>
                <a:ea typeface="隶书"/>
              </a:rPr>
              <a:t>10</a:t>
            </a:r>
            <a:r>
              <a:rPr b="1" lang="zh-CN" sz="3200" spc="-1" strike="noStrike">
                <a:solidFill>
                  <a:srgbClr val="993300"/>
                </a:solidFill>
                <a:latin typeface="隶书"/>
                <a:ea typeface="隶书"/>
              </a:rPr>
              <a:t>班班歌</a:t>
            </a:r>
            <a:br>
              <a:rPr sz="3200"/>
            </a:br>
            <a:r>
              <a:rPr b="1" lang="zh-CN" sz="3200" spc="-1" strike="noStrike">
                <a:solidFill>
                  <a:srgbClr val="993300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cc00cc"/>
                </a:solidFill>
                <a:latin typeface="隶书"/>
                <a:ea typeface="隶书"/>
              </a:rPr>
              <a:t>作曲</a:t>
            </a:r>
            <a:r>
              <a:rPr b="1" lang="zh-CN" sz="3200" spc="-1" strike="noStrike">
                <a:solidFill>
                  <a:srgbClr val="cc00cc"/>
                </a:solidFill>
                <a:latin typeface="隶书"/>
                <a:ea typeface="隶书"/>
              </a:rPr>
              <a:t>\</a:t>
            </a:r>
            <a:r>
              <a:rPr b="1" lang="zh-CN" sz="3200" spc="-1" strike="noStrike">
                <a:solidFill>
                  <a:srgbClr val="cc00cc"/>
                </a:solidFill>
                <a:latin typeface="隶书"/>
                <a:ea typeface="隶书"/>
              </a:rPr>
              <a:t>配器：蔡剑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隶书"/>
              </a:rPr>
              <a:t>别让青春的风采失去光泽，别让年轻的心海充满苦涩。我们是驰骋草原的骏马，纵横大地才是应有的品格。来吧！来吧！年轻的你我，用多彩的笔画出心中的火，焚掉枷锁点燃希望，把辉煌的未来珍惜把握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16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别让青春的季节缺少欢乐，别让年轻的脚步压力太多。我们是展翅翱翔的雄鹰，搏击长空才是应有的气魄。来吧！来吧！年轻的你我，用朴实的歌喉唱奋进的歌，珍藏过去，昂首明天，脚下的道路无比广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02152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9047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华文彩云"/>
              </a:rPr>
              <a:t>我们的口号</a:t>
            </a:r>
            <a:endParaRPr b="1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珍藏过去    昂首明天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携手同行    无悔青春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1055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</a:t>
            </a:r>
            <a:r>
              <a:rPr b="1" lang="zh-CN" sz="8000" spc="-1" strike="noStrike">
                <a:solidFill>
                  <a:srgbClr val="ff00ff"/>
                </a:solidFill>
                <a:latin typeface="华文新魏"/>
                <a:ea typeface="华文新魏"/>
              </a:rPr>
              <a:t>演   讲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800" y="3276720"/>
            <a:ext cx="4648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《我   想   说》       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-------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张   秋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《只说一点点》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------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毛继鸿                                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Arial"/>
                <a:ea typeface="华文行楷"/>
              </a:rPr>
              <a:t>小提琴独奏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24280" y="5029200"/>
            <a:ext cx="4724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《让我们荡起双桨》                                                                       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演奏者：秦   瑜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4952880"/>
            <a:ext cx="335268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86400" y="152280"/>
            <a:ext cx="33526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8120" y="5331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演    讲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4266720"/>
            <a:ext cx="3809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《成       长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------</a:t>
            </a: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李   杰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0607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228960" y="304560"/>
            <a:ext cx="8637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华文彩云"/>
              </a:rPr>
              <a:t>                </a:t>
            </a: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华文彩云"/>
              </a:rPr>
              <a:t>校园多美好</a:t>
            </a:r>
            <a:br>
              <a:rPr sz="6600"/>
            </a:b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                                    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------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全班合唱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湖边的柳梢把信报，春天归来了，鱼儿摆尾划破湖面云儿在浪里摇，密林深处书声浪朗朗鸟儿都醉了哟！淘气的画眉跃上枝头眨着眼睛偷偷的瞧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校园多美好呀！处处有芳草，待到名朝百花吐艳风光更妖娆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屋檐的下面筑新巢，燕子飞来了，鱼儿摆尾划破湖面云儿在浪里摇，满园桃李万紫千红蜂儿嗡嗡叫哟！滴滴雨露珠映着霞光放出彩虹千万条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校园多美好呀！处处有芳草，待到明朝果实累累风光更妖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858680" cy="1520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cc"/>
                </a:solidFill>
                <a:latin typeface="华文彩云"/>
                <a:ea typeface="华文彩云"/>
              </a:rPr>
              <a:t>  </a:t>
            </a:r>
            <a:r>
              <a:rPr b="1" lang="zh-CN" sz="7200" spc="-1" strike="noStrike">
                <a:solidFill>
                  <a:srgbClr val="6600cc"/>
                </a:solidFill>
                <a:latin typeface="华文彩云"/>
                <a:ea typeface="华文彩云"/>
              </a:rPr>
              <a:t>演   讲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715000" y="2666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《发      泄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刘    磊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114800" y="457164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华文行楷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66ff33"/>
                </a:solidFill>
                <a:latin typeface="华文行楷"/>
                <a:ea typeface="华文行楷"/>
              </a:rPr>
              <a:t>独  唱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《阳光总在风雨后》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表演者： </a:t>
            </a:r>
            <a:r>
              <a:rPr b="0" lang="zh-CN" sz="4000" spc="-1" strike="noStrike">
                <a:solidFill>
                  <a:srgbClr val="66ff33"/>
                </a:solidFill>
                <a:latin typeface="华文行楷"/>
                <a:ea typeface="华文行楷"/>
              </a:rPr>
              <a:t>杨  妍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3352680" cy="1905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219320" y="914400"/>
            <a:ext cx="2361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歌表演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075440" y="0"/>
            <a:ext cx="2068560" cy="2895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5638680" y="4343400"/>
            <a:ext cx="5638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</a:t>
            </a:r>
            <a:r>
              <a:rPr b="1" lang="zh-CN" sz="4400" spc="-1" strike="noStrike">
                <a:solidFill>
                  <a:srgbClr val="66ff33"/>
                </a:solidFill>
                <a:latin typeface="华文行楷"/>
                <a:ea typeface="华文行楷"/>
              </a:rPr>
              <a:t>独      唱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《阳光总在风雨后》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表演者： </a:t>
            </a:r>
            <a:r>
              <a:rPr b="0" lang="zh-CN" sz="4000" spc="-1" strike="noStrike">
                <a:solidFill>
                  <a:srgbClr val="66ff33"/>
                </a:solidFill>
                <a:latin typeface="华文行楷"/>
                <a:ea typeface="华文行楷"/>
              </a:rPr>
              <a:t>杨  妍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3:57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06:26Z</dcterms:modified>
  <cp:revision>210</cp:revision>
  <dc:subject>主题班会课件(分28大类): http://shop62905894.taobao.com</dc:subject>
  <dc:title>主题班会课件(分28大类): http://shop62905894.taobao.com</dc:title>
</cp:coreProperties>
</file>